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B7F1-5226-4CEA-8B14-B670F767FD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они – обитатели почв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B624-1300-45D0-91FB-BCABA521E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E17-E0D5-40F4-A602-2546872D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EAD-4C30-4BA0-995C-4A4A8CE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A94-B3B3-4853-B29E-771B44B3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9A-9BB7-48C3-820A-D87D2E11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F14-EC77-4A21-8D19-E7DF4175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D271-3445-4110-A1F5-28497DC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740D-A57F-4E6D-A3D9-1DEC24D1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A19-79B2-4005-9CE5-B077BD7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10C9-8B66-4442-A96C-2AD94C8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0F5C-3A36-4DAD-9631-738C8CB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0DA-C5C8-481D-B3BA-0885E81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633-E3A5-41F9-9FF5-7B79AEE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3F5-F642-49C2-826B-090F4B4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C2CF-5453-48FC-81B6-5FFDAB8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F85-7091-4A65-A912-FA3FE352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7E8B-B9D4-4E77-AA7D-A0043635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A5EC-5C77-45F0-919C-1CD43A51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958-2A9B-43EE-A984-E8214911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F54-4E50-4AA2-8C42-9AE9074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57-B7B6-4D3B-A76F-BE9F570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0A7-2614-4AC2-A8CF-634D0DF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EE1-061E-4248-B0C8-0434023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682-1AB2-46CE-A465-82B92B2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B17-5E6B-48EA-AD9C-89AD5CE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0AC1-D43B-462D-ACD6-34362367BD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A2D-62D7-4C82-85D5-5C1C3811CE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1840" y="765000"/>
            <a:ext cx="7921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0033"/>
                </a:solidFill>
                <a:latin typeface="Times New Roman"/>
              </a:rPr>
              <a:t>Разнообразные живые обитатели почв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79995\Desktop\pic123.jpg"/>
          <p:cNvPicPr/>
          <p:nvPr/>
        </p:nvPicPr>
        <p:blipFill>
          <a:blip r:embed="rId1"/>
          <a:stretch/>
        </p:blipFill>
        <p:spPr>
          <a:xfrm>
            <a:off x="971640" y="2924280"/>
            <a:ext cx="7878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Многоклеточные жители почв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836640"/>
            <a:ext cx="9137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битают  в почве и более крупные животные. Это прежде всего различные клещи, слизни, некоторые насекомые. Они не имеют специальных приспособлений для рытья проходов в почве, поэтому живут неглуб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17.gif"/>
          <p:cNvPicPr/>
          <p:nvPr/>
        </p:nvPicPr>
        <p:blipFill>
          <a:blip r:embed="rId1"/>
          <a:stretch/>
        </p:blipFill>
        <p:spPr>
          <a:xfrm>
            <a:off x="2556000" y="263700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Узнали, кто это такие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2" name="Содержимое 3" descr="cherv-300x268.jpg"/>
          <p:cNvPicPr/>
          <p:nvPr/>
        </p:nvPicPr>
        <p:blipFill>
          <a:blip r:embed="rId1"/>
          <a:stretch/>
        </p:blipFill>
        <p:spPr>
          <a:xfrm>
            <a:off x="250920" y="1052640"/>
            <a:ext cx="4111560" cy="3671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Нематода под микроскопом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38638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016.jpg"/>
          <p:cNvPicPr/>
          <p:nvPr/>
        </p:nvPicPr>
        <p:blipFill>
          <a:blip r:embed="rId3"/>
          <a:stretch/>
        </p:blipFill>
        <p:spPr>
          <a:xfrm>
            <a:off x="2987640" y="4211640"/>
            <a:ext cx="381636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285840" y="50007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Вот о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обит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поч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А теперь – о самых крупны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80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Самые крупные из постоянных обитателей почвы – кроты, землеройки и слепыши. Всю свою жизнь они проводят в почве, в полной темноте, поэтому имеют неразвитые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Все у них приспособлено для жизни под землей: удлиненное тело, густой и короткий мех, сильные копательные передние ноги у крота и мощные резцы у слепыша. С их помощью они создают сложные системы ходов, ловушки, клад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jpg"/>
          <p:cNvPicPr/>
          <p:nvPr/>
        </p:nvPicPr>
        <p:blipFill>
          <a:blip r:embed="rId1"/>
          <a:stretch/>
        </p:blipFill>
        <p:spPr>
          <a:xfrm>
            <a:off x="179280" y="3860640"/>
            <a:ext cx="30736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225881754_2.jpg"/>
          <p:cNvPicPr/>
          <p:nvPr/>
        </p:nvPicPr>
        <p:blipFill>
          <a:blip r:embed="rId2"/>
          <a:stretch/>
        </p:blipFill>
        <p:spPr>
          <a:xfrm>
            <a:off x="6443640" y="350028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0019-018-ZHivotnye-zemleroi.jpg"/>
          <p:cNvPicPr/>
          <p:nvPr/>
        </p:nvPicPr>
        <p:blipFill>
          <a:blip r:embed="rId3"/>
          <a:stretch/>
        </p:blipFill>
        <p:spPr>
          <a:xfrm>
            <a:off x="2987640" y="4149720"/>
            <a:ext cx="3529080" cy="2236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это верхний плодородный сл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788000" y="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родие – главное свойство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почва.jpg"/>
          <p:cNvPicPr/>
          <p:nvPr/>
        </p:nvPicPr>
        <p:blipFill>
          <a:blip r:embed="rId1"/>
          <a:stretch/>
        </p:blipFill>
        <p:spPr>
          <a:xfrm>
            <a:off x="1504800" y="1749600"/>
            <a:ext cx="584676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как среда обитания представляет собой сложную систему, состоящую из твердых частиц, окруженных воздухом и вод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низана полостями, заполненными смесью газов и водными растворами, в ней складываются разнообразные условия, благоприятные для жизни множества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3352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чвенной среды обитания характерны следующие факто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олнечного св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о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е перепады  температу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одержание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е в твёрдой ср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79995\Desktop\picture_017.jpg"/>
          <p:cNvPicPr/>
          <p:nvPr/>
        </p:nvPicPr>
        <p:blipFill>
          <a:blip r:embed="rId1"/>
          <a:stretch/>
        </p:blipFill>
        <p:spPr>
          <a:xfrm>
            <a:off x="2282760" y="4184640"/>
            <a:ext cx="6861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12"/>
          <p:cNvGrpSpPr/>
          <p:nvPr/>
        </p:nvGrpSpPr>
        <p:grpSpPr>
          <a:xfrm>
            <a:off x="2492280" y="1055880"/>
            <a:ext cx="5131800" cy="5443920"/>
            <a:chOff x="2492280" y="1055880"/>
            <a:chExt cx="5131800" cy="5443920"/>
          </a:xfrm>
        </p:grpSpPr>
        <p:sp>
          <p:nvSpPr>
            <p:cNvPr id="114" name="_s1028"/>
            <p:cNvSpPr/>
            <p:nvPr/>
          </p:nvSpPr>
          <p:spPr>
            <a:xfrm flipH="1" flipV="1">
              <a:off x="4034160" y="2998440"/>
              <a:ext cx="5162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>
              <a:off x="2872080" y="18514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flipH="1">
              <a:off x="3781800" y="4037400"/>
              <a:ext cx="6436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2492280" y="3648240"/>
              <a:ext cx="130500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ЗДУ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 flipH="1">
              <a:off x="4489920" y="4513320"/>
              <a:ext cx="28548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55500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С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5339520" y="4513320"/>
              <a:ext cx="28512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525924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ГЛ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5691240" y="4037400"/>
              <a:ext cx="6418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7"/>
            <p:cNvSpPr/>
            <p:nvPr/>
          </p:nvSpPr>
          <p:spPr>
            <a:xfrm>
              <a:off x="6319440" y="364824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МИКРОБ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 flipV="1">
              <a:off x="5565960" y="2998440"/>
              <a:ext cx="5144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9"/>
            <p:cNvSpPr/>
            <p:nvPr/>
          </p:nvSpPr>
          <p:spPr>
            <a:xfrm>
              <a:off x="5939640" y="1853640"/>
              <a:ext cx="1305000" cy="141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СО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0"/>
            <p:cNvSpPr/>
            <p:nvPr/>
          </p:nvSpPr>
          <p:spPr>
            <a:xfrm flipV="1">
              <a:off x="5057640" y="2465280"/>
              <a:ext cx="0" cy="71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406040" y="10558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РЕГ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2"/>
            <p:cNvSpPr/>
            <p:nvPr/>
          </p:nvSpPr>
          <p:spPr>
            <a:xfrm>
              <a:off x="4406040" y="3178440"/>
              <a:ext cx="1304640" cy="1410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Bell MT"/>
                </a:rPr>
                <a:t>ПОЧ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0"/>
          <p:cNvSpPr/>
          <p:nvPr/>
        </p:nvSpPr>
        <p:spPr>
          <a:xfrm>
            <a:off x="5254560" y="22496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4" descr=""/>
          <p:cNvPicPr/>
          <p:nvPr/>
        </p:nvPicPr>
        <p:blipFill>
          <a:blip r:embed="rId2"/>
          <a:stretch/>
        </p:blipFill>
        <p:spPr>
          <a:xfrm>
            <a:off x="1182600" y="36360"/>
            <a:ext cx="6023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9"/>
          <p:cNvSpPr txBox="1"/>
          <p:nvPr/>
        </p:nvSpPr>
        <p:spPr>
          <a:xfrm>
            <a:off x="1042920" y="0"/>
            <a:ext cx="74898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участвует в образовании почв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2050920" y="1700280"/>
            <a:ext cx="2303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2852640"/>
            <a:ext cx="273528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чинк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500720" y="1700280"/>
            <a:ext cx="237636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6624720" y="2852640"/>
            <a:ext cx="2519280" cy="151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кро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71280" y="1341360"/>
            <a:ext cx="287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5508720" y="141300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EXPO6026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0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EXPO4649"/>
          <p:cNvPicPr/>
          <p:nvPr/>
        </p:nvPicPr>
        <p:blipFill>
          <a:blip r:embed="rId2"/>
          <a:stretch/>
        </p:blipFill>
        <p:spPr>
          <a:xfrm>
            <a:off x="250920" y="4508640"/>
            <a:ext cx="2520720" cy="211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EXPO4698"/>
          <p:cNvPicPr/>
          <p:nvPr/>
        </p:nvPicPr>
        <p:blipFill>
          <a:blip r:embed="rId3"/>
          <a:stretch/>
        </p:blipFill>
        <p:spPr>
          <a:xfrm>
            <a:off x="6300720" y="4437000"/>
            <a:ext cx="268776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26"/>
          <p:cNvSpPr/>
          <p:nvPr/>
        </p:nvSpPr>
        <p:spPr>
          <a:xfrm flipH="1">
            <a:off x="1042560" y="1341360"/>
            <a:ext cx="576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7164360" y="1413000"/>
            <a:ext cx="79236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Bodoni MT"/>
              </a:rPr>
              <a:t>Круговорот вещест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4" name="Diagram 9"/>
          <p:cNvGrpSpPr/>
          <p:nvPr/>
        </p:nvGrpSpPr>
        <p:grpSpPr>
          <a:xfrm>
            <a:off x="2221920" y="1594800"/>
            <a:ext cx="4703760" cy="4843080"/>
            <a:chOff x="2221920" y="1594800"/>
            <a:chExt cx="4703760" cy="4843080"/>
          </a:xfrm>
        </p:grpSpPr>
        <p:sp>
          <p:nvSpPr>
            <p:cNvPr id="145" name="_s2052"/>
            <p:cNvSpPr/>
            <p:nvPr/>
          </p:nvSpPr>
          <p:spPr>
            <a:xfrm>
              <a:off x="3357000" y="1594800"/>
              <a:ext cx="2433600" cy="273816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8160"/>
                <a:gd name="textAreaBottom" fmla="*/ 2738520 h 27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3"/>
            <p:cNvSpPr/>
            <p:nvPr/>
          </p:nvSpPr>
          <p:spPr>
            <a:xfrm rot="4320000">
              <a:off x="3976200" y="237708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4"/>
            <p:cNvSpPr/>
            <p:nvPr/>
          </p:nvSpPr>
          <p:spPr>
            <a:xfrm rot="8640000">
              <a:off x="3832920" y="3246480"/>
              <a:ext cx="2433240" cy="2737440"/>
            </a:xfrm>
            <a:custGeom>
              <a:avLst/>
              <a:gdLst>
                <a:gd name="textAreaLeft" fmla="*/ 0 w 2433240"/>
                <a:gd name="textAreaRight" fmla="*/ 2433600 w 243324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5"/>
            <p:cNvSpPr/>
            <p:nvPr/>
          </p:nvSpPr>
          <p:spPr>
            <a:xfrm rot="12960000">
              <a:off x="2880360" y="3246480"/>
              <a:ext cx="2433600" cy="273744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6"/>
            <p:cNvSpPr/>
            <p:nvPr/>
          </p:nvSpPr>
          <p:spPr>
            <a:xfrm rot="17280000">
              <a:off x="2432880" y="237672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519696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ерег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8"/>
            <p:cNvSpPr/>
            <p:nvPr/>
          </p:nvSpPr>
          <p:spPr>
            <a:xfrm>
              <a:off x="5860080" y="4004280"/>
              <a:ext cx="89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олей</a:t>
              </a: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4126680" y="5424840"/>
              <a:ext cx="895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спользу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я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2390400" y="40082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итаю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жив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61"/>
            <p:cNvSpPr/>
            <p:nvPr/>
          </p:nvSpPr>
          <p:spPr>
            <a:xfrm>
              <a:off x="305208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тми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 живот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935920" y="5445000"/>
          <a:ext cx="208080" cy="709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7095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33" descr="1 (11)"/>
          <p:cNvPicPr/>
          <p:nvPr/>
        </p:nvPicPr>
        <p:blipFill>
          <a:blip r:embed="rId1"/>
          <a:stretch/>
        </p:blipFill>
        <p:spPr>
          <a:xfrm>
            <a:off x="6372360" y="69228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4" descr="1 (49)"/>
          <p:cNvPicPr/>
          <p:nvPr/>
        </p:nvPicPr>
        <p:blipFill>
          <a:blip r:embed="rId2"/>
          <a:stretch/>
        </p:blipFill>
        <p:spPr>
          <a:xfrm>
            <a:off x="6948360" y="443700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EXPO1184"/>
          <p:cNvPicPr/>
          <p:nvPr/>
        </p:nvPicPr>
        <p:blipFill>
          <a:blip r:embed="rId3"/>
          <a:stretch/>
        </p:blipFill>
        <p:spPr>
          <a:xfrm>
            <a:off x="25092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EXPO4673"/>
          <p:cNvPicPr/>
          <p:nvPr/>
        </p:nvPicPr>
        <p:blipFill>
          <a:blip r:embed="rId4"/>
          <a:stretch/>
        </p:blipFill>
        <p:spPr>
          <a:xfrm>
            <a:off x="250920" y="692280"/>
            <a:ext cx="2089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Среда, насыщенная жизнью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Содержимое 3" descr="схема.jpg"/>
          <p:cNvPicPr/>
          <p:nvPr/>
        </p:nvPicPr>
        <p:blipFill>
          <a:blip r:embed="rId1"/>
          <a:stretch/>
        </p:blipFill>
        <p:spPr>
          <a:xfrm>
            <a:off x="0" y="1125360"/>
            <a:ext cx="9015480" cy="51213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 самых незаметн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907920"/>
            <a:ext cx="8642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Корни растений, грибницы различных грибов пронизывают почву. Особенно много в почве микро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Так, в 1 кв. см почвы содержатся десятки и даже сотни миллионов бактерий, простейших, одноклеточных грибов и даже водоросл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почвенная бактерия.jpg"/>
          <p:cNvPicPr/>
          <p:nvPr/>
        </p:nvPicPr>
        <p:blipFill>
          <a:blip r:embed="rId1"/>
          <a:stretch/>
        </p:blipFill>
        <p:spPr>
          <a:xfrm>
            <a:off x="0" y="4076640"/>
            <a:ext cx="1908000" cy="2301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одноклеточная водоросль.jpg"/>
          <p:cNvPicPr/>
          <p:nvPr/>
        </p:nvPicPr>
        <p:blipFill>
          <a:blip r:embed="rId2"/>
          <a:stretch/>
        </p:blipFill>
        <p:spPr>
          <a:xfrm>
            <a:off x="4572000" y="4149720"/>
            <a:ext cx="2908440" cy="2181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простейшие.jpg"/>
          <p:cNvPicPr/>
          <p:nvPr/>
        </p:nvPicPr>
        <p:blipFill>
          <a:blip r:embed="rId3"/>
          <a:stretch/>
        </p:blipFill>
        <p:spPr>
          <a:xfrm>
            <a:off x="1768320" y="4292640"/>
            <a:ext cx="318312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ndex2.jpg"/>
          <p:cNvPicPr/>
          <p:nvPr/>
        </p:nvPicPr>
        <p:blipFill>
          <a:blip r:embed="rId4"/>
          <a:stretch/>
        </p:blipFill>
        <p:spPr>
          <a:xfrm>
            <a:off x="7236000" y="4076640"/>
            <a:ext cx="1908000" cy="232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3:33:47Z</dcterms:created>
  <dc:creator>C4</dc:creator>
  <dc:description/>
  <dc:language>en-US</dc:language>
  <cp:lastModifiedBy>79995678691</cp:lastModifiedBy>
  <dcterms:modified xsi:type="dcterms:W3CDTF">2020-11-28T17:08:28Z</dcterms:modified>
  <cp:revision>52</cp:revision>
  <dc:subject/>
  <dc:title>Слайд 1</dc:title>
</cp:coreProperties>
</file>